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0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5E20-5228-4638-9532-50E8716B6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9785-97D3-40E9-A4B6-6F8AA3CD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2738-C095-46D2-A775-372717F6C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3F9F-7698-48BE-95EA-88DF3E689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B5FE-2881-4265-B2C4-8C6EE77A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79A6-A2BB-409D-B233-71A5D43B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624E-AC97-4AF7-BC42-7C067D4A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D238-A7B3-4D4F-A214-62BAB2C3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A20D-2DFF-47BC-A5BF-FCD79911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087B-1A62-4C4B-84CB-8EA96874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0EDD-29A2-4BD7-AAAB-29E31086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107E-B0A9-45C5-A75C-F003E47A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a3e5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A487-6000-49D8-A6CA-BCB57D0D40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Ramona - Maria PEL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E0B6-BA55-45A7-BE7D-182C1B5359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relucr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  <a:ea typeface="Arial"/>
              </a:rPr>
              <a:t>ări de imagini </a:t>
            </a:r>
            <a:br>
              <a:rPr sz="4000"/>
            </a:br>
            <a:r>
              <a:rPr b="1" lang="ro-RO" sz="4000" spc="-1" strike="noStrike">
                <a:solidFill>
                  <a:srgbClr val="000000"/>
                </a:solidFill>
                <a:latin typeface="Arial"/>
                <a:ea typeface="Arial"/>
              </a:rPr>
              <a:t>cu circuite FPG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5480" y="4714560"/>
            <a:ext cx="471492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Conducă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ştiinţif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Prof. dr. ing. Aurel Ştefan Gont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r. ing. Petru Demi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Footer Placeholder 4"/>
          <p:cNvSpPr/>
          <p:nvPr/>
        </p:nvSpPr>
        <p:spPr>
          <a:xfrm>
            <a:off x="285840" y="6357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mona - Maria P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e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7907-5879-4CC9-96A5-3194CD19CBE2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8215200" y="142920"/>
            <a:ext cx="803520" cy="880920"/>
          </a:xfrm>
          <a:prstGeom prst="rect">
            <a:avLst/>
          </a:prstGeom>
          <a:ln w="0">
            <a:noFill/>
          </a:ln>
        </p:spPr>
      </p:pic>
      <p:sp>
        <p:nvSpPr>
          <p:cNvPr id="46" name="Subtitle 11"/>
          <p:cNvSpPr/>
          <p:nvPr/>
        </p:nvSpPr>
        <p:spPr>
          <a:xfrm>
            <a:off x="5357880" y="4714920"/>
            <a:ext cx="3429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Timişo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Iunie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866880" cy="857160"/>
          </a:xfrm>
          <a:prstGeom prst="rect">
            <a:avLst/>
          </a:prstGeom>
          <a:ln w="0">
            <a:noFill/>
          </a:ln>
        </p:spPr>
      </p:pic>
      <p:sp>
        <p:nvSpPr>
          <p:cNvPr id="48" name="TextBox 8"/>
          <p:cNvSpPr/>
          <p:nvPr/>
        </p:nvSpPr>
        <p:spPr>
          <a:xfrm>
            <a:off x="214200" y="5715000"/>
            <a:ext cx="1357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Aut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1285920" y="0"/>
            <a:ext cx="66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UNIVERSITATEA “POLITEHNICA” DIN TIMIŞOA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FACULTATEA DE ELECTRONICĂ ŞI TELECOMUNICAŢ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DEPARTAMENTUL DE COMUNICAŢ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285840" y="6357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mona - Maria PE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8215200" y="142920"/>
            <a:ext cx="803520" cy="88092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F74F-E9FD-4D86-A8B7-10EE396DB650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1214280" y="214200"/>
            <a:ext cx="657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creen Saver realizat utili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zâ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istemul de dezvoltare Virtex-2 P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1054080" y="1714680"/>
            <a:ext cx="7035840" cy="4659120"/>
          </a:xfrm>
          <a:prstGeom prst="rect">
            <a:avLst/>
          </a:prstGeom>
          <a:ln w="0">
            <a:noFill/>
          </a:ln>
        </p:spPr>
      </p:pic>
      <p:sp>
        <p:nvSpPr>
          <p:cNvPr id="103" name="TextBox 6"/>
          <p:cNvSpPr/>
          <p:nvPr/>
        </p:nvSpPr>
        <p:spPr>
          <a:xfrm>
            <a:off x="142920" y="1143000"/>
            <a:ext cx="88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şcarea unei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maginii pe un monitor de rezoluţie 640x4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285840" y="6357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mona - Maria PE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8215200" y="142920"/>
            <a:ext cx="803520" cy="880920"/>
          </a:xfrm>
          <a:prstGeom prst="rect">
            <a:avLst/>
          </a:prstGeom>
          <a:ln w="0">
            <a:noFill/>
          </a:ln>
        </p:spPr>
      </p:pic>
      <p:sp>
        <p:nvSpPr>
          <p:cNvPr id="106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334A-9517-4967-8ABA-4284D6B08D4D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785880" y="214200"/>
            <a:ext cx="67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Concluz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TextBox 5" descr=""/>
          <p:cNvPicPr/>
          <p:nvPr/>
        </p:nvPicPr>
        <p:blipFill>
          <a:blip r:embed="rId2"/>
          <a:stretch/>
        </p:blipFill>
        <p:spPr>
          <a:xfrm>
            <a:off x="420840" y="755640"/>
            <a:ext cx="7156440" cy="13590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6"/>
          <p:cNvSpPr/>
          <p:nvPr/>
        </p:nvSpPr>
        <p:spPr>
          <a:xfrm>
            <a:off x="2714760" y="157176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ortabilit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>
            <a:off x="428760" y="2143080"/>
            <a:ext cx="4786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 u="sng">
                <a:solidFill>
                  <a:srgbClr val="000000"/>
                </a:solidFill>
                <a:uFillTx/>
                <a:latin typeface="Arial"/>
              </a:rPr>
              <a:t>Dezavanta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RAM redus al FPGA –ulu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oze de dimensiuni mic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TextBox 9" descr=""/>
          <p:cNvPicPr/>
          <p:nvPr/>
        </p:nvPicPr>
        <p:blipFill>
          <a:blip r:embed="rId3"/>
          <a:stretch/>
        </p:blipFill>
        <p:spPr>
          <a:xfrm>
            <a:off x="360360" y="3614760"/>
            <a:ext cx="80773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285840" y="6357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mona - Maria PE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8215200" y="142920"/>
            <a:ext cx="803520" cy="880920"/>
          </a:xfrm>
          <a:prstGeom prst="rect">
            <a:avLst/>
          </a:prstGeom>
          <a:ln w="0">
            <a:noFill/>
          </a:ln>
        </p:spPr>
      </p:pic>
      <p:sp>
        <p:nvSpPr>
          <p:cNvPr id="11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2B6E-AAEC-4C55-A287-DE7DAAE83076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214200" y="3786120"/>
            <a:ext cx="421488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Vă mulţumesc pentru atenţia acordată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LennaPaint.jpg"/>
          <p:cNvPicPr/>
          <p:nvPr/>
        </p:nvPicPr>
        <p:blipFill>
          <a:blip r:embed="rId2"/>
          <a:stretch/>
        </p:blipFill>
        <p:spPr>
          <a:xfrm>
            <a:off x="642960" y="500040"/>
            <a:ext cx="2503440" cy="2514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10.bmp"/>
          <p:cNvPicPr/>
          <p:nvPr/>
        </p:nvPicPr>
        <p:blipFill>
          <a:blip r:embed="rId3"/>
          <a:stretch/>
        </p:blipFill>
        <p:spPr>
          <a:xfrm>
            <a:off x="4548240" y="1143000"/>
            <a:ext cx="4595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oter Placeholder 4"/>
          <p:cNvSpPr/>
          <p:nvPr/>
        </p:nvSpPr>
        <p:spPr>
          <a:xfrm>
            <a:off x="285840" y="6357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mona - Maria PE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8215200" y="142920"/>
            <a:ext cx="803520" cy="880920"/>
          </a:xfrm>
          <a:prstGeom prst="rect">
            <a:avLst/>
          </a:prstGeom>
          <a:ln w="0">
            <a:noFill/>
          </a:ln>
        </p:spPr>
      </p:pic>
      <p:sp>
        <p:nvSpPr>
          <p:cNvPr id="52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F102-8035-41C4-9DBF-C36879284E68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285840" y="285840"/>
            <a:ext cx="8572320" cy="63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c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obţine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rea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 un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ui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 sistem hardware pe care să se po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 realiza prelucr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ări de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 imagini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alizarea şi implementarea aplicaţie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sistemul de dezvoltare Virtex-II P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cod VHDL –Xilinx ISE 10.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1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ta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memorarea unei imagini în FPG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prelucrarea imaginii la nivel de pix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afişarea imaginii pe monitor prin intermediul conectorului XSG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4"/>
          <p:cNvSpPr/>
          <p:nvPr/>
        </p:nvSpPr>
        <p:spPr>
          <a:xfrm>
            <a:off x="285840" y="6357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mona - Maria PE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8215200" y="142920"/>
            <a:ext cx="803520" cy="880920"/>
          </a:xfrm>
          <a:prstGeom prst="rect">
            <a:avLst/>
          </a:prstGeom>
          <a:ln w="0">
            <a:noFill/>
          </a:ln>
        </p:spPr>
      </p:pic>
      <p:sp>
        <p:nvSpPr>
          <p:cNvPr id="56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3D21-CF54-483C-8035-36D179BDE31D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214200" y="214200"/>
            <a:ext cx="592956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BMP 2 C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implementare: Matla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1 pixel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&gt; 1 vector de 24 bi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ţ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structura fişierului co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8"/>
              <p:cNvSpPr txBox="1"/>
              <p:nvPr/>
            </p:nvSpPr>
            <p:spPr>
              <a:xfrm>
                <a:off x="3571920" y="2500200"/>
                <a:ext cx="1865160" cy="21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9" name="Right Brace 14"/>
          <p:cNvSpPr/>
          <p:nvPr/>
        </p:nvSpPr>
        <p:spPr>
          <a:xfrm>
            <a:off x="5643720" y="2571840"/>
            <a:ext cx="214200" cy="2000160"/>
          </a:xfrm>
          <a:custGeom>
            <a:avLst/>
            <a:gdLst>
              <a:gd name="textAreaLeft" fmla="*/ 0 w 214200"/>
              <a:gd name="textAreaRight" fmla="*/ 77400 w 214200"/>
              <a:gd name="textAreaTop" fmla="*/ 5400 h 2000160"/>
              <a:gd name="textAreaBottom" fmla="*/ 1994760 h 200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7"/>
                  <a:pt x="10800" y="193"/>
                </a:cubicBezTo>
                <a:lnTo>
                  <a:pt x="10800" y="10607"/>
                </a:lnTo>
                <a:cubicBezTo>
                  <a:pt x="10800" y="10704"/>
                  <a:pt x="16200" y="10800"/>
                  <a:pt x="21600" y="10800"/>
                </a:cubicBezTo>
                <a:cubicBezTo>
                  <a:pt x="16200" y="10800"/>
                  <a:pt x="10800" y="10897"/>
                  <a:pt x="10800" y="10993"/>
                </a:cubicBezTo>
                <a:lnTo>
                  <a:pt x="10800" y="21407"/>
                </a:lnTo>
                <a:cubicBezTo>
                  <a:pt x="10800" y="21504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6"/>
          <p:cNvSpPr/>
          <p:nvPr/>
        </p:nvSpPr>
        <p:spPr>
          <a:xfrm>
            <a:off x="5857920" y="3143160"/>
            <a:ext cx="300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m*n linii, fiecare reprezentând codul hexa corespunzător unui pix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7"/>
          <p:cNvSpPr/>
          <p:nvPr/>
        </p:nvSpPr>
        <p:spPr>
          <a:xfrm>
            <a:off x="214200" y="4786200"/>
            <a:ext cx="842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memorare în FPGA : crearea unui bloc RAM  folosind utilitarul Xilinx IP Core Generator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4"/>
          <p:cNvSpPr/>
          <p:nvPr/>
        </p:nvSpPr>
        <p:spPr>
          <a:xfrm>
            <a:off x="285840" y="6357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mona - Maria PE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8215200" y="142920"/>
            <a:ext cx="803520" cy="880920"/>
          </a:xfrm>
          <a:prstGeom prst="rect">
            <a:avLst/>
          </a:prstGeom>
          <a:ln w="0">
            <a:noFill/>
          </a:ln>
        </p:spPr>
      </p:pic>
      <p:sp>
        <p:nvSpPr>
          <p:cNvPr id="6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1C28-CAB4-4871-A602-78A60FCD9EF5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285840" y="285840"/>
            <a:ext cx="84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Schema bloc a sistemului implementat în FPG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357120" y="5214960"/>
            <a:ext cx="664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Citirea datelor din memor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Prelucrarea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Transmiterea semnalelor la portul XSG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12.bmp"/>
          <p:cNvPicPr/>
          <p:nvPr/>
        </p:nvPicPr>
        <p:blipFill>
          <a:blip r:embed="rId2"/>
          <a:stretch/>
        </p:blipFill>
        <p:spPr>
          <a:xfrm>
            <a:off x="71280" y="1285920"/>
            <a:ext cx="900144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285840" y="6357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mona - Maria PE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8215200" y="142920"/>
            <a:ext cx="803520" cy="880920"/>
          </a:xfrm>
          <a:prstGeom prst="rect">
            <a:avLst/>
          </a:prstGeom>
          <a:ln w="0">
            <a:noFill/>
          </a:ln>
        </p:spPr>
      </p:pic>
      <p:sp>
        <p:nvSpPr>
          <p:cNvPr id="70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0F99-ED91-4DB7-B234-543416DADF1D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571680" y="428760"/>
            <a:ext cx="75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Imaginea originală comparat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 cu imaginea negat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5"/>
          <p:cNvPicPr/>
          <p:nvPr/>
        </p:nvPicPr>
        <p:blipFill>
          <a:blip r:embed="rId2"/>
          <a:stretch/>
        </p:blipFill>
        <p:spPr>
          <a:xfrm>
            <a:off x="320760" y="1357200"/>
            <a:ext cx="850248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285840" y="6357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mona - Maria PE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8215200" y="142920"/>
            <a:ext cx="803520" cy="880920"/>
          </a:xfrm>
          <a:prstGeom prst="rect">
            <a:avLst/>
          </a:prstGeom>
          <a:ln w="0">
            <a:noFill/>
          </a:ln>
        </p:spPr>
      </p:pic>
      <p:sp>
        <p:nvSpPr>
          <p:cNvPr id="75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176D-8294-45A9-8997-07DBDF8AF6A0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1357200" y="142920"/>
            <a:ext cx="621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Imaginea originală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comparată cu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 imaginea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în nuanţe de g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2"/>
          <p:cNvPicPr/>
          <p:nvPr/>
        </p:nvPicPr>
        <p:blipFill>
          <a:blip r:embed="rId2"/>
          <a:stretch/>
        </p:blipFill>
        <p:spPr>
          <a:xfrm>
            <a:off x="322200" y="1500120"/>
            <a:ext cx="8499600" cy="4594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8" name="Object 7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8"/>
              <p:cNvSpPr txBox="1"/>
              <p:nvPr/>
            </p:nvSpPr>
            <p:spPr>
              <a:xfrm>
                <a:off x="714240" y="1000080"/>
                <a:ext cx="3500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,3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9</m:t>
                    </m:r>
                    <m:r>
                      <m:t xml:space="preserve">⋅</m:t>
                    </m:r>
                    <m:r>
                      <m:t xml:space="preserve">G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TextBox 10"/>
          <p:cNvSpPr/>
          <p:nvPr/>
        </p:nvSpPr>
        <p:spPr>
          <a:xfrm>
            <a:off x="500040" y="100008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4"/>
          <p:cNvSpPr/>
          <p:nvPr/>
        </p:nvSpPr>
        <p:spPr>
          <a:xfrm>
            <a:off x="285840" y="6357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mona - Maria PE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8215200" y="142920"/>
            <a:ext cx="803520" cy="880920"/>
          </a:xfrm>
          <a:prstGeom prst="rect">
            <a:avLst/>
          </a:prstGeom>
          <a:ln w="0">
            <a:noFill/>
          </a:ln>
        </p:spPr>
      </p:pic>
      <p:sp>
        <p:nvSpPr>
          <p:cNvPr id="83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DEFF-D5E3-40F1-97EE-3EEED79B6F49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214280" y="214200"/>
            <a:ext cx="63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Imaginea originală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comparată 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imaginea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alb - neg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3"/>
          <p:cNvPicPr/>
          <p:nvPr/>
        </p:nvPicPr>
        <p:blipFill>
          <a:blip r:embed="rId2"/>
          <a:stretch/>
        </p:blipFill>
        <p:spPr>
          <a:xfrm>
            <a:off x="274680" y="1428840"/>
            <a:ext cx="859464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4"/>
          <p:cNvSpPr/>
          <p:nvPr/>
        </p:nvSpPr>
        <p:spPr>
          <a:xfrm>
            <a:off x="285840" y="6357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mona - Maria PE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8215200" y="142920"/>
            <a:ext cx="803520" cy="880920"/>
          </a:xfrm>
          <a:prstGeom prst="rect">
            <a:avLst/>
          </a:prstGeom>
          <a:ln w="0">
            <a:noFill/>
          </a:ln>
        </p:spPr>
      </p:pic>
      <p:sp>
        <p:nvSpPr>
          <p:cNvPr id="88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66CE-89C7-4574-8D3B-7E267E4D90CC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428760" y="21420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Aplicarea unui filtru medi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500040" y="785880"/>
            <a:ext cx="64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stem discret cu r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ăspuns finit la impuls (FI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6"/>
              <p:cNvSpPr txBox="1"/>
              <p:nvPr/>
            </p:nvSpPr>
            <p:spPr>
              <a:xfrm>
                <a:off x="2286000" y="1285920"/>
                <a:ext cx="25970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92" name="Picture 7" descr=""/>
          <p:cNvPicPr/>
          <p:nvPr/>
        </p:nvPicPr>
        <p:blipFill>
          <a:blip r:embed="rId2"/>
          <a:stretch/>
        </p:blipFill>
        <p:spPr>
          <a:xfrm>
            <a:off x="587520" y="2357280"/>
            <a:ext cx="7968960" cy="32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285840" y="6357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mona - Maria PE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8215200" y="142920"/>
            <a:ext cx="803520" cy="880920"/>
          </a:xfrm>
          <a:prstGeom prst="rect">
            <a:avLst/>
          </a:prstGeom>
          <a:ln w="0">
            <a:noFill/>
          </a:ln>
        </p:spPr>
      </p:pic>
      <p:sp>
        <p:nvSpPr>
          <p:cNvPr id="95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706A-4E92-4402-90AD-CAD50592C554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642960" y="142920"/>
            <a:ext cx="757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inea originală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comparată 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inea filtrată (F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11.bmp"/>
          <p:cNvPicPr/>
          <p:nvPr/>
        </p:nvPicPr>
        <p:blipFill>
          <a:blip r:embed="rId2"/>
          <a:stretch/>
        </p:blipFill>
        <p:spPr>
          <a:xfrm>
            <a:off x="254160" y="1285920"/>
            <a:ext cx="86356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5T14:41:11Z</dcterms:created>
  <dc:creator>Mona</dc:creator>
  <dc:description/>
  <dc:language>en-US</dc:language>
  <cp:lastModifiedBy>as</cp:lastModifiedBy>
  <dcterms:modified xsi:type="dcterms:W3CDTF">2010-06-28T07:13:08Z</dcterms:modified>
  <cp:revision>75</cp:revision>
  <dc:subject/>
  <dc:title>Slide 1</dc:title>
</cp:coreProperties>
</file>