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DAF4-ED66-47FE-97A6-D21BB0DD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1303-00DA-49F6-9F38-536C8AA1E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480D-E83D-4018-96E1-608FC091D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04B1-9980-485A-B1C7-5A6A07BE1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2E13-46EB-493A-9A68-22F42BEE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5B768-7BFB-49A6-97AD-4E81EB92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4044-BEB9-410A-9204-2C4B7C1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9498F-0657-4CF8-B6A8-AD57A3FD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32CC-A6BF-44C1-853D-64B3B7C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6DE1C-3D6D-4B36-9228-D9E9681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33867-244A-4F2F-94A4-16B1E83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EFD0-8402-4714-B430-F316D3F68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81C71-37CE-472C-B197-72E5686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947BF-6E49-4F81-828C-729F533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488F5-ABE0-4930-8262-66C69756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6C2AD-3628-483D-8812-6FC2C6BB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4F0BD-6867-4EA0-B0EB-6AD0A463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5606-477B-4A07-9284-45FB309D3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B2CC-E28B-4931-9560-26A460E3F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540C-6EC7-4B03-BCE3-F9891C876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21D7-FD9B-4C78-A919-DBF4CCC56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7B71-01BD-4CE0-8DE0-9A13F9DA1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0992-9CDC-4E17-9BC8-81ECF2D2D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9FF3-591A-416D-9937-39DA23F70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237360"/>
            <a:ext cx="172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ina T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ă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F25-68C9-4542-A262-68AFACEA5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B123-E1CA-44C0-BBBC-27DAAE7AA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UGETUL  LEGĂTURII RADIO ÎN CELULE 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4266720"/>
            <a:ext cx="85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ducător ştiinţific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r. Ing. Eugen MÂRZA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Gianina TĂ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imişo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ulie 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Exemplificare implementare metodă de 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5734080"/>
            <a:ext cx="55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pendenţa MAPL de numărul de blocuri de resurs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1268280"/>
          <a:ext cx="856944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6944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4763-362F-4D21-9CC3-86C819E5C2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Exemplificare implementare metodă de calcu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804640"/>
            <a:ext cx="32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pendenţa distanţei de servici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125360"/>
            <a:ext cx="770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stanţa dintre UE şi eNodeB – Modelul Hata modifi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0920" y="1700280"/>
          <a:ext cx="856908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5690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3DA1-3BAE-4D02-BF64-4463B13DFB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Concluzi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APL min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ine pentru serviciul de date 2000 kbps, iar MAPL maxim pentru serviciu de VoIP 12.2 kb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APL minim se obţine pentru mediu dens urban - adânc în interi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a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APL maxim pentru mediu r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stanţa minim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ine pentru serviciul de date 2000 kbps, iar distanţa maximă pentru serviciu de VoIP 12.2 kb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stanţa minimă se obţine pentru mediu dens urban - adânc în interi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a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stanţa maximă pentru mediu r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50E6-A6FB-4D90-A618-35956848E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806472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Concluzi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628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n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tatea receptorului UE este mai ridicată decât sen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tatea receptorului eNod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ugetul legăturii radio pe legătura descendentă are o valoare mai ridicată decât cel de pe legătura ascendentă, deci uplink este legătura restrictivă, care limiteaz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 legătura ascendentă distanţa dintre UE şi eNodeB este mai mică decât pe legătura descendent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1F70-2DEB-46E1-9EB9-6751342AA4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Vă mulţumesc 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uprinsul lucră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 Introdu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 Arhitectura 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 Interfaţa radio 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Diferenţe între UL şi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. Implementare metodă de calcul pentru bugetul legăturii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specte evidenţiate în prezen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 Contextul în care s-a realizat bugetul legăturii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 Exemplificare implementare metodă de calc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 Concluzii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F59E-327F-4685-BB7A-594093A66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Contextul în care s-a realizat bugetul legăturii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6912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MAPL –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ierderile maxime admisibile prin propag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3284640"/>
            <a:ext cx="144000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3284640"/>
            <a:ext cx="136872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0960" y="2749680"/>
            <a:ext cx="16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98560" y="3500280"/>
            <a:ext cx="1152360" cy="50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UTERE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TRANSMI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500280"/>
            <a:ext cx="1079280" cy="50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IERDERI Ş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AR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4200" y="3284640"/>
            <a:ext cx="122400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38560" y="3571920"/>
            <a:ext cx="1049400" cy="28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ÂŞTIG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6920" y="3284640"/>
            <a:ext cx="1440000" cy="863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78560" y="3500280"/>
            <a:ext cx="1338120" cy="478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SENSIBILIT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84640"/>
            <a:ext cx="1584360" cy="863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7280" y="3571920"/>
            <a:ext cx="1409760" cy="3348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INTERFERENŢ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109600" y="2504880"/>
            <a:ext cx="304560" cy="1143000"/>
          </a:xfrm>
          <a:custGeom>
            <a:avLst/>
            <a:gdLst>
              <a:gd name="textAreaLeft" fmla="*/ 40680 w 304560"/>
              <a:gd name="textAreaRight" fmla="*/ 263880 w 3045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693960" y="2504880"/>
            <a:ext cx="304560" cy="1143000"/>
          </a:xfrm>
          <a:custGeom>
            <a:avLst/>
            <a:gdLst>
              <a:gd name="textAreaLeft" fmla="*/ 40680 w 304560"/>
              <a:gd name="textAreaRight" fmla="*/ 263880 w 3045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205240" y="2504880"/>
            <a:ext cx="304560" cy="1143000"/>
          </a:xfrm>
          <a:custGeom>
            <a:avLst/>
            <a:gdLst>
              <a:gd name="textAreaLeft" fmla="*/ 40680 w 304560"/>
              <a:gd name="textAreaRight" fmla="*/ 263880 w 3045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7005600" y="2504880"/>
            <a:ext cx="304560" cy="1143000"/>
          </a:xfrm>
          <a:custGeom>
            <a:avLst/>
            <a:gdLst>
              <a:gd name="textAreaLeft" fmla="*/ 40680 w 304560"/>
              <a:gd name="textAreaRight" fmla="*/ 263880 w 3045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49600" y="237816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64080" y="26067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78200" y="2492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35000" y="24084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9480" y="2637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440" y="24084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6560" y="2637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32440" y="24084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6920" y="2637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436392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utere eNodeB -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utere UE - 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1480" y="4437000"/>
            <a:ext cx="12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gin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nterferenţ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4437000"/>
            <a:ext cx="151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rivă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formanţ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5480" y="4363920"/>
            <a:ext cx="158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âştigul antenei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âştigul antenei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Nod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âştigul de 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38560" y="4437000"/>
            <a:ext cx="1657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erderi penet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rgini umb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ody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erderi cab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08F9-EEE4-4B90-94D3-6A3A7859C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uterea de transmisie: UE - 23 dB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NodeB - 36.8, 40.5, 43 dB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ierderi prin penetrare: 8 dB, 14 dB, 17 dB, 20 dB şi 0 dB pentru exteri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ody loss: pentru VoIP - 3 dB, pentru date – 0 d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argini de umbră: 3.3 – 11.7 d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âştigul: UE - 5 dB pentru vehicul (DL), 2 dB în r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NodeB - 18 d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handover 0.4 – 0.7 dB pentru mediu rural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 – 4.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r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Contextul în care s-a realizat bugetul legăturii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765B-9378-409A-8900-C6F888FEF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Contextul în care s-a realizat bugetul legăturii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91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AP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MaxTx dBm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+ TxGain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+ RxGain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CableLoss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BodyLoss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Penetration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Sensitivity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m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+ InterferenceMargin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+ ShadowingMargin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HoGain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421000"/>
            <a:ext cx="7648920" cy="3932280"/>
            <a:chOff x="755640" y="2421000"/>
            <a:chExt cx="7648920" cy="3932280"/>
          </a:xfrm>
        </p:grpSpPr>
        <p:sp>
          <p:nvSpPr>
            <p:cNvPr id="149" name=""/>
            <p:cNvSpPr/>
            <p:nvPr/>
          </p:nvSpPr>
          <p:spPr>
            <a:xfrm>
              <a:off x="755640" y="2421000"/>
              <a:ext cx="7648920" cy="3932280"/>
            </a:xfrm>
            <a:prstGeom prst="rect">
              <a:avLst/>
            </a:prstGeom>
            <a:gradFill rotWithShape="0">
              <a:gsLst>
                <a:gs pos="0">
                  <a:srgbClr val="6699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879840" y="2485080"/>
              <a:ext cx="2456640" cy="36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12120" y="3388320"/>
              <a:ext cx="225000" cy="2643480"/>
            </a:xfrm>
            <a:prstGeom prst="upArrow">
              <a:avLst>
                <a:gd name="adj1" fmla="val 50000"/>
                <a:gd name="adj2" fmla="val 29372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87240" y="5916240"/>
              <a:ext cx="17661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Arial"/>
                </a:rPr>
                <a:t>Raza</a:t>
              </a: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ro-RO" sz="1400" spc="-1" strike="noStrike">
                  <a:solidFill>
                    <a:srgbClr val="ffffff"/>
                  </a:solidFill>
                  <a:latin typeface="Arial"/>
                </a:rPr>
                <a:t>celule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362040" y="3388320"/>
              <a:ext cx="4230360" cy="216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17920" y="5580360"/>
              <a:ext cx="134280" cy="474120"/>
            </a:xfrm>
            <a:prstGeom prst="upArrow">
              <a:avLst>
                <a:gd name="adj1" fmla="val 50000"/>
                <a:gd name="adj2" fmla="val 88271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6480" y="3533400"/>
              <a:ext cx="82152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99ff"/>
                  </a:solidFill>
                  <a:latin typeface="Arial"/>
                </a:rPr>
                <a:t>M</a:t>
              </a:r>
              <a:r>
                <a:rPr b="1" lang="ro-RO" sz="1600" spc="-1" strike="noStrike">
                  <a:solidFill>
                    <a:srgbClr val="9999ff"/>
                  </a:solidFill>
                  <a:latin typeface="Arial"/>
                </a:rPr>
                <a:t>AP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03120" y="5439600"/>
              <a:ext cx="3210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ccffcc"/>
                  </a:solidFill>
                  <a:latin typeface="Arial"/>
                </a:rPr>
                <a:t>Sensi</a:t>
              </a:r>
              <a:r>
                <a:rPr b="1" lang="en-US" sz="1400" spc="-1" strike="noStrike">
                  <a:solidFill>
                    <a:srgbClr val="ccffcc"/>
                  </a:solidFill>
                  <a:latin typeface="Arial"/>
                </a:rPr>
                <a:t>b</a:t>
              </a:r>
              <a:r>
                <a:rPr b="1" lang="ro-RO" sz="1400" spc="-1" strike="noStrike">
                  <a:solidFill>
                    <a:srgbClr val="ccffcc"/>
                  </a:solidFill>
                  <a:latin typeface="Arial"/>
                </a:rPr>
                <a:t>i</a:t>
              </a:r>
              <a:r>
                <a:rPr b="1" lang="en-US" sz="1400" spc="-1" strike="noStrike">
                  <a:solidFill>
                    <a:srgbClr val="ccffcc"/>
                  </a:solidFill>
                  <a:latin typeface="Arial"/>
                </a:rPr>
                <a:t>l</a:t>
              </a:r>
              <a:r>
                <a:rPr b="1" lang="ro-RO" sz="1400" spc="-1" strike="noStrike">
                  <a:solidFill>
                    <a:srgbClr val="ccffcc"/>
                  </a:solidFill>
                  <a:latin typeface="Arial"/>
                </a:rPr>
                <a:t>itatea</a:t>
              </a:r>
              <a:r>
                <a:rPr b="1" lang="ro-RO" sz="1100" spc="-1" strike="noStrike">
                  <a:solidFill>
                    <a:srgbClr val="cccce6"/>
                  </a:solidFill>
                  <a:latin typeface="Arial"/>
                </a:rPr>
                <a:t> </a:t>
              </a:r>
              <a:r>
                <a:rPr b="1" lang="ro-RO" sz="1400" spc="-1" strike="noStrike">
                  <a:solidFill>
                    <a:srgbClr val="ccffcc"/>
                  </a:solidFill>
                  <a:latin typeface="Arial"/>
                </a:rPr>
                <a:t>receptorul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742120" y="3388320"/>
              <a:ext cx="4844520" cy="11584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08720" y="3056040"/>
              <a:ext cx="3755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imes New Roman"/>
                </a:rPr>
                <a:t>Puterea maximă de transmisie</a:t>
              </a:r>
              <a:r>
                <a:rPr b="0" lang="ro-RO" sz="1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17920" y="5066280"/>
              <a:ext cx="149760" cy="513720"/>
            </a:xfrm>
            <a:prstGeom prst="upArrow">
              <a:avLst>
                <a:gd name="adj1" fmla="val 50000"/>
                <a:gd name="adj2" fmla="val 85757"/>
              </a:avLst>
            </a:prstGeom>
            <a:solidFill>
              <a:srgbClr val="ffcc00"/>
            </a:solidFill>
            <a:ln w="64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42200" y="4963320"/>
              <a:ext cx="2803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ffcc00"/>
                  </a:solidFill>
                  <a:latin typeface="Arial"/>
                </a:rPr>
                <a:t>Câştiguri</a:t>
              </a:r>
              <a:r>
                <a:rPr b="1" lang="en-GB" sz="1400" spc="-1" strike="noStrike">
                  <a:solidFill>
                    <a:srgbClr val="ffcc00"/>
                  </a:solidFill>
                  <a:latin typeface="Arial"/>
                </a:rPr>
                <a:t> - </a:t>
              </a:r>
              <a:r>
                <a:rPr b="1" lang="ro-RO" sz="1400" spc="-1" strike="noStrike">
                  <a:solidFill>
                    <a:srgbClr val="ffcc00"/>
                  </a:solidFill>
                  <a:latin typeface="Arial"/>
                </a:rPr>
                <a:t>Pierde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17920" y="3388320"/>
              <a:ext cx="149760" cy="1159920"/>
            </a:xfrm>
            <a:prstGeom prst="upArrow">
              <a:avLst>
                <a:gd name="adj1" fmla="val 50000"/>
                <a:gd name="adj2" fmla="val 193630"/>
              </a:avLst>
            </a:prstGeom>
            <a:solidFill>
              <a:srgbClr val="9999ff"/>
            </a:solidFill>
            <a:ln w="64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17920" y="4548600"/>
              <a:ext cx="149760" cy="517680"/>
            </a:xfrm>
            <a:prstGeom prst="upArrow">
              <a:avLst>
                <a:gd name="adj1" fmla="val 50000"/>
                <a:gd name="adj2" fmla="val 86418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3120" y="4486680"/>
              <a:ext cx="2568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c636ca"/>
                  </a:solidFill>
                  <a:latin typeface="Arial"/>
                </a:rPr>
                <a:t>Marginea de interferenţ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7336440" y="5503320"/>
              <a:ext cx="6228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892480" y="6075000"/>
              <a:ext cx="12848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361240" y="6075000"/>
              <a:ext cx="17661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B77E-FFF9-4776-963F-D8F06F9F35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Contextul în care s-a realizat bugetul legăturii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rvic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2.2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64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128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256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384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500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1000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e 2000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edii rad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ns urba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i adânc în i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rba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i i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uburba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i i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Rural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i în vehi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E955-6352-4ADB-B26A-742F7614FE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Exemplificare implementare metodă de calcu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79280" y="1052640"/>
            <a:ext cx="5111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ol excel - Legătura asc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C0A1-6451-4C56-B413-B013878ED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Exemplificare implementare metodă de 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79280" y="1052640"/>
            <a:ext cx="4608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ol excel - Legătura desc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80128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B6BB-60ED-42D7-B1F8-9D8A5C943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Exemplificare implementare metodă de 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734080"/>
            <a:ext cx="65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pendenţa MAPL de sensibilitatea receptorulu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9280" y="1197000"/>
          <a:ext cx="8640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640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ina Tăt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21D8-1D93-48D2-BDD8-DC6130E200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5:15:04Z</dcterms:created>
  <dc:creator>atatar</dc:creator>
  <dc:description/>
  <dc:language>en-US</dc:language>
  <cp:lastModifiedBy>gtatar</cp:lastModifiedBy>
  <dcterms:modified xsi:type="dcterms:W3CDTF">2010-06-28T07:52:22Z</dcterms:modified>
  <cp:revision>134</cp:revision>
  <dc:subject/>
  <dc:title>IMPACTUL DIFERIŢILOR PARAMETRI CE APAR ÎN DIMENSIONAREA UTRAN ASUPRA PREŢULUI ECHIPAMENTELOR NECESARE </dc:title>
</cp:coreProperties>
</file>