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5AC-2590-4ACC-96CC-283778CD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9F9-8BBF-4524-BA82-28EA4559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F7E-6CF7-4516-94CF-9C386475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0CC-39C7-4F75-83FF-1DE9A7DA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A5BA-DB87-4066-9ADF-28754AA1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8D1A-C1D7-4BFE-AB99-A859E61F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F484-CD70-42CC-BAAC-35DF8C3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EF2-CF2F-4F63-8ECA-BC41E62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BC3-A016-4A74-ABCD-F409198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822-5754-429B-8543-1C3F4A7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8B7-88A9-48A8-9265-D93530D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4FB-6AAA-4BD9-A21C-1B1D135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ED9-83AB-4616-981F-B5F49B1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6C04-CF26-4BFE-BA4D-59D8977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647-7CE4-4C9B-B8DA-681BCDB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4298-B531-4B62-8479-91832CD8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FCD-94D5-489F-9B64-DFD4BA10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49E-0CD1-449C-AE9D-48577A59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024-7656-44C3-A394-4D9AF82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E00-E084-468F-9BB5-183EFDA9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0A5-E3CB-4F10-B9C3-863A0D3F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30F-D4FF-48C2-B3E7-99859B8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C9E-15A5-4CA9-9BD0-16B1574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026-AB26-4390-A09F-EED4CB5C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5F85-721B-4BDA-97F9-B06DC96433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995-49CA-4F90-9902-61034B05B5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55280" y="3068280"/>
            <a:ext cx="7775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ZVOLTAREA UNEI BAZE DE DATE FOTO PENTRU TESTAREA UNUI SISTEM DE RECUNOAŞTERE AUTOMATĂ A GESTURI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1280" y="256392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iect de diplom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4360" y="5445000"/>
            <a:ext cx="338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ător ştiinţif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. Dr. Ing., Marius OTEŞTEANU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021440" y="5516640"/>
            <a:ext cx="17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bsolv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Sandra Dărăba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10" descr="ASL handshapes"/>
          <p:cNvPicPr/>
          <p:nvPr/>
        </p:nvPicPr>
        <p:blipFill>
          <a:blip r:embed="rId1"/>
          <a:stretch/>
        </p:blipFill>
        <p:spPr>
          <a:xfrm>
            <a:off x="3995640" y="4402080"/>
            <a:ext cx="2054160" cy="898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258920" y="1195560"/>
            <a:ext cx="66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atea Politehnica din Tim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ara</a:t>
            </a:r>
            <a:br>
              <a:rPr sz="2200"/>
            </a:b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Facultatea de Electronică şi Telecomunicaţi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amentul de Comunic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i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14" descr="sigla_utt"/>
          <p:cNvPicPr/>
          <p:nvPr/>
        </p:nvPicPr>
        <p:blipFill>
          <a:blip r:embed="rId2"/>
          <a:stretch/>
        </p:blipFill>
        <p:spPr>
          <a:xfrm>
            <a:off x="684360" y="119700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sigla_etc"/>
          <p:cNvPicPr/>
          <p:nvPr/>
        </p:nvPicPr>
        <p:blipFill>
          <a:blip r:embed="rId3"/>
          <a:stretch/>
        </p:blipFill>
        <p:spPr>
          <a:xfrm>
            <a:off x="7381800" y="1195560"/>
            <a:ext cx="115272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7"/>
          <p:cNvSpPr/>
          <p:nvPr/>
        </p:nvSpPr>
        <p:spPr>
          <a:xfrm>
            <a:off x="1258920" y="1197000"/>
            <a:ext cx="66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atea Politehnica din Tim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ara</a:t>
            </a:r>
            <a:br>
              <a:rPr sz="2200"/>
            </a:b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Facultatea de Electronică şi Telecomunicaţi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amentul de Comunic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i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8" descr="sigla_utt"/>
          <p:cNvPicPr/>
          <p:nvPr/>
        </p:nvPicPr>
        <p:blipFill>
          <a:blip r:embed="rId4"/>
          <a:stretch/>
        </p:blipFill>
        <p:spPr>
          <a:xfrm>
            <a:off x="684360" y="1198440"/>
            <a:ext cx="1152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71680" y="1623960"/>
            <a:ext cx="799596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za de date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foto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optimizată prin edit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etoda recunoaşterii gesturlior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azată pe tehnica compoziţională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- după editarea bazei de date foto, rata erorii a scăzut cu 46%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azată pe clasificarea Haar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ata erorii minimă calculată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2% pentru gestul 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- rata erorii poate fi micşorată prin creşterea numărului datelor de intr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oda recunoa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ii g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uril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or împreună cu baza de date fo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mit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dezvoltarea un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interfeţe int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gente fără cont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are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pot fi utilizate î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ul dintre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domeni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: medical, secur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, auto etc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Concluz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aight Connector 8"/>
          <p:cNvSpPr/>
          <p:nvPr/>
        </p:nvSpPr>
        <p:spPr>
          <a:xfrm>
            <a:off x="642960" y="5214960"/>
            <a:ext cx="7929720" cy="1440"/>
          </a:xfrm>
          <a:prstGeom prst="line">
            <a:avLst/>
          </a:prstGeom>
          <a:ln w="12600">
            <a:solidFill>
              <a:srgbClr val="00c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fe</a:t>
            </a: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rinţ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4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[1]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Georgiana Sârbu-Doagă, </a:t>
            </a:r>
            <a:r>
              <a:rPr b="0" i="1" lang="ro-RO" sz="1800" spc="-1" strike="noStrike">
                <a:solidFill>
                  <a:srgbClr val="000000"/>
                </a:solidFill>
                <a:latin typeface="Verdana"/>
              </a:rPr>
              <a:t>A compositional approach to hand gesture recognition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, Ed. Politehnica, Timişoara,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[2]</a:t>
            </a:r>
            <a:r>
              <a:rPr b="0" lang="ro-RO" sz="1800" spc="-1" strike="noStrike">
                <a:solidFill>
                  <a:srgbClr val="00ccff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tp://193.226.17.10/sites/pni/msva/Curs/MSVA_Curs1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[3]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opencv.willowgarage.com/wiki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[4] </a:t>
            </a:r>
            <a:r>
              <a:rPr b="0" lang="ro-RO" sz="18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ry Bradski, Adrian Kahler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arning OpenC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d. O’Reilly,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[5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opencv.willowgarage.com/documentation/cpp/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l._machine_learning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2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2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782640" y="196848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ă mulţumesc pentru atenţia acordată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gend</a:t>
            </a: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za de date f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hnica compoziţională de recunoaştere a gesturi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2.1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Descrierea algoritmulu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2.2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Testarea bazei de date foto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cunoaşterea gesturilor cu ajutorul altgoritmului H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3.1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lasificarea Ha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3.2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Adaptarea algoritmulu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recunoaşterea gestur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o-RO" sz="1400" spc="-1" strike="noStrike">
                <a:solidFill>
                  <a:srgbClr val="00ccff"/>
                </a:solidFill>
                <a:latin typeface="Arial"/>
              </a:rPr>
              <a:t>3.3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Testarea algoritmului Haa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4.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cluzi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5.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ferinţ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aza de date fo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iectul: Alfabetul american al limbajului semne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4 de litere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din alfabet ce nu implică miş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Fiecare gest fotografiat de 10 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m avut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10 subiecţ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2400 de fotograf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dal alb, iluminare natural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ă şi artificial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ificare: dup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ă literele din alfab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Imagini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denu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forma: numege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numă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 37.JPG"/>
          <p:cNvPicPr/>
          <p:nvPr/>
        </p:nvPicPr>
        <p:blipFill>
          <a:blip r:embed="rId2"/>
          <a:stretch/>
        </p:blipFill>
        <p:spPr>
          <a:xfrm>
            <a:off x="1214280" y="4643280"/>
            <a:ext cx="1951200" cy="130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t 60.JPG"/>
          <p:cNvPicPr/>
          <p:nvPr/>
        </p:nvPicPr>
        <p:blipFill>
          <a:blip r:embed="rId3"/>
          <a:stretch/>
        </p:blipFill>
        <p:spPr>
          <a:xfrm>
            <a:off x="3357720" y="4643280"/>
            <a:ext cx="1950840" cy="130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 45.JPG"/>
          <p:cNvPicPr/>
          <p:nvPr/>
        </p:nvPicPr>
        <p:blipFill>
          <a:blip r:embed="rId4"/>
          <a:stretch/>
        </p:blipFill>
        <p:spPr>
          <a:xfrm>
            <a:off x="5500800" y="4643280"/>
            <a:ext cx="1950840" cy="130500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1143000" y="3214800"/>
            <a:ext cx="4214880" cy="1440"/>
          </a:xfrm>
          <a:prstGeom prst="line">
            <a:avLst/>
          </a:prstGeom>
          <a:ln w="28440">
            <a:solidFill>
              <a:srgbClr val="00c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Tehnica compoziţională de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recunoaştere a gesturi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640" y="1752480"/>
            <a:ext cx="4934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scrierea algoritm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edura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de antren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aracteristici: Imagine RGB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 Imagine tonuri de gri-&gt; detector contur Canny-&gt; detector puncte de interes Harris=&gt;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z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 interes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x20 pixeli – vectori caracteristi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-means: algoritm d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învăţare nesuperviz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icţionarul de caracteristi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mpoziţii candid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Grupare K-mea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ompoziţii proto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uncţia cost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mbria Math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mbria Math"/>
              </a:rPr>
              <a:t>	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mbria Math"/>
              </a:rPr>
              <a:t>𝞴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mbria Math"/>
              </a:rPr>
              <a:t>defineşte echilibrul între general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mbria Math"/>
              </a:rPr>
              <a:t>singul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Cambria Math"/>
              </a:rPr>
              <a:t>Prototipuri compoziţionale relevan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Untitled1.jpg"/>
          <p:cNvPicPr/>
          <p:nvPr/>
        </p:nvPicPr>
        <p:blipFill>
          <a:blip r:embed="rId2"/>
          <a:stretch/>
        </p:blipFill>
        <p:spPr>
          <a:xfrm>
            <a:off x="5357880" y="1643040"/>
            <a:ext cx="2957400" cy="45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2571840" y="4857840"/>
                <a:ext cx="1612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Descrierea algoritmului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071720" y="1928880"/>
          <a:ext cx="68400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928880"/>
                    <a:ext cx="6840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ooter Placeholder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sigla_etc"/>
          <p:cNvPicPr/>
          <p:nvPr/>
        </p:nvPicPr>
        <p:blipFill>
          <a:blip r:embed="rId3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3"/>
          <p:cNvSpPr/>
          <p:nvPr/>
        </p:nvSpPr>
        <p:spPr>
          <a:xfrm>
            <a:off x="3814920" y="2708280"/>
            <a:ext cx="363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5" descr="Untitled2.jpg"/>
          <p:cNvPicPr/>
          <p:nvPr/>
        </p:nvPicPr>
        <p:blipFill>
          <a:blip r:embed="rId4"/>
          <a:stretch/>
        </p:blipFill>
        <p:spPr>
          <a:xfrm>
            <a:off x="5429160" y="1643040"/>
            <a:ext cx="3143520" cy="45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8"/>
          <p:cNvGraphicFramePr/>
          <p:nvPr/>
        </p:nvGraphicFramePr>
        <p:xfrm>
          <a:off x="2571840" y="2143080"/>
          <a:ext cx="214308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2143080"/>
                    <a:ext cx="21430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"/>
          <p:cNvGraphicFramePr/>
          <p:nvPr/>
        </p:nvGraphicFramePr>
        <p:xfrm>
          <a:off x="2571840" y="2500200"/>
          <a:ext cx="2143080" cy="2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2500200"/>
                    <a:ext cx="21430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785880" y="285768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𝞪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bazat pe date experimenta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428760" y="3214800"/>
            <a:ext cx="521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lasificarea compoziţiilor: potrivirea punctelor – înregistrarea imaginilor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magine nouă - distanţa de la imaginile folosite la antrena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785880" y="4357800"/>
          <a:ext cx="3929040" cy="64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4357800"/>
                    <a:ext cx="39290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500040" y="51436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Funcţia discriminant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21"/>
          <p:cNvGraphicFramePr/>
          <p:nvPr/>
        </p:nvGraphicFramePr>
        <p:xfrm>
          <a:off x="1285920" y="5500800"/>
          <a:ext cx="2448000" cy="50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85920" y="5500800"/>
                    <a:ext cx="2448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19"/>
          <p:cNvSpPr/>
          <p:nvPr/>
        </p:nvSpPr>
        <p:spPr>
          <a:xfrm>
            <a:off x="642960" y="164304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ahoma"/>
              </a:rPr>
              <a:t>Recunoaşterea gesturil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785960" y="2286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4786200" y="4429080"/>
            <a:ext cx="5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4786200" y="5429160"/>
            <a:ext cx="5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Testarea bazei de date fo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4200" y="1752480"/>
            <a:ext cx="392904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  <a:ea typeface="Arial"/>
              </a:rPr>
              <a:t>Patru clase de gesturi: A, B, L, V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  <a:ea typeface="Arial"/>
              </a:rPr>
              <a:t>Rezoluţia imaginilor 640x480 pixel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  <a:ea typeface="Arial"/>
              </a:rPr>
              <a:t>50 imagin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/gest – antren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50 imagini/gest – test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20 prototipuri, 18 relevan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Content Placeholder 9" descr="Untitled3..jpg"/>
          <p:cNvPicPr/>
          <p:nvPr/>
        </p:nvPicPr>
        <p:blipFill>
          <a:blip r:embed="rId1"/>
          <a:stretch/>
        </p:blipFill>
        <p:spPr>
          <a:xfrm>
            <a:off x="4071960" y="1785960"/>
            <a:ext cx="4572000" cy="371484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7216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/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571680" y="3357720"/>
          <a:ext cx="287964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3357720"/>
                    <a:ext cx="2879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Box 8"/>
          <p:cNvSpPr/>
          <p:nvPr/>
        </p:nvSpPr>
        <p:spPr>
          <a:xfrm>
            <a:off x="142920" y="4216320"/>
            <a:ext cx="37861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</a:t>
            </a:r>
            <a:r>
              <a:rPr b="1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𝞪: 0.001, 0.01, 0.05, 0.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0.001 rata erorii este minim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.48 %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ditarea bazei de da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r</a:t>
            </a:r>
            <a:r>
              <a:rPr b="1" lang="ro-RO" sz="1400" spc="-1" strike="noStrike">
                <a:solidFill>
                  <a:srgbClr val="000000"/>
                </a:solidFill>
                <a:latin typeface="Tahoma"/>
              </a:rPr>
              <a:t>ata erorii est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ro-RO" sz="1400" spc="-1" strike="noStrike">
                <a:solidFill>
                  <a:srgbClr val="000000"/>
                </a:solidFill>
                <a:latin typeface="Tahoma"/>
              </a:rPr>
              <a:t>.01% pentru 𝞪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sigla_etc"/>
          <p:cNvPicPr/>
          <p:nvPr/>
        </p:nvPicPr>
        <p:blipFill>
          <a:blip r:embed="rId4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4143240" y="55720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ricea de confuzie pentru gestul 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3500280" y="3500280"/>
            <a:ext cx="5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Recunoa</a:t>
            </a:r>
            <a:r>
              <a:rPr b="1" lang="ro-RO" sz="3200" spc="-1" strike="noStrike">
                <a:solidFill>
                  <a:srgbClr val="000000"/>
                </a:solidFill>
                <a:latin typeface="Arial Black"/>
                <a:ea typeface="Arial"/>
              </a:rPr>
              <a:t>şterea gesturilor cu ajutorul altgoritmului Ha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6280" y="1714320"/>
            <a:ext cx="48625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.Clasificarea H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aracteristici Haa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 pr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hnica imaginii integra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imulare statistic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clasificare binar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rea noduril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&gt; cascad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ă de 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ing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n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grup de clasific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cada de respingere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duri simple -&gt; compl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ă pargurge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 dac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ă gestul a fost recunosc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Content Placeholder 7" descr="figura_gest.PNG"/>
          <p:cNvPicPr/>
          <p:nvPr/>
        </p:nvPicPr>
        <p:blipFill>
          <a:blip r:embed="rId1"/>
          <a:stretch/>
        </p:blipFill>
        <p:spPr>
          <a:xfrm>
            <a:off x="5572080" y="1714680"/>
            <a:ext cx="2995560" cy="30002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357880" y="500076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cada de respingere  Viola -Jon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sigla_etc"/>
          <p:cNvPicPr/>
          <p:nvPr/>
        </p:nvPicPr>
        <p:blipFill>
          <a:blip r:embed="rId2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aptarea algoritmului la recuno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r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gesturi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OpenCV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++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detecţia feţe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lgoritmul urmăreşte parcurgerea a patru etap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Maker -&gt; prelevarea datelor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de intr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Samples -&gt; crearea vectorului de ie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ş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Maker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 s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electarea eşantioanelor negat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area algoritmului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gesturile A, B, L, 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50 imagini/gest pentru antrenar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50 imagini/gest pentru te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se face pentru un singur ges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sigla_etc"/>
          <p:cNvPicPr/>
          <p:nvPr/>
        </p:nvPicPr>
        <p:blipFill>
          <a:blip r:embed="rId1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area algoritmului Ha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uno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e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gest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Content Placeholder 9" descr="Aok.jpg"/>
          <p:cNvPicPr/>
          <p:nvPr/>
        </p:nvPicPr>
        <p:blipFill>
          <a:blip r:embed="rId1"/>
          <a:stretch/>
        </p:blipFill>
        <p:spPr>
          <a:xfrm>
            <a:off x="457200" y="2357280"/>
            <a:ext cx="4043520" cy="2928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643040"/>
            <a:ext cx="4041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roare în recunoaşterea gest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Content Placeholder 10" descr="Anok.jpg"/>
          <p:cNvPicPr/>
          <p:nvPr/>
        </p:nvPicPr>
        <p:blipFill>
          <a:blip r:embed="rId2"/>
          <a:stretch/>
        </p:blipFill>
        <p:spPr>
          <a:xfrm>
            <a:off x="4645080" y="2357280"/>
            <a:ext cx="404172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Verdana"/>
              </a:rPr>
              <a:t>Sandra Dărăba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/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642960" y="5643720"/>
            <a:ext cx="79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ata erorii minimă calculată pentru gestul A a fost d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2%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sigla_etc"/>
          <p:cNvPicPr/>
          <p:nvPr/>
        </p:nvPicPr>
        <p:blipFill>
          <a:blip r:embed="rId3"/>
          <a:stretch/>
        </p:blipFill>
        <p:spPr>
          <a:xfrm>
            <a:off x="8244000" y="9036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2:34:34Z</dcterms:created>
  <dc:creator>Cristian</dc:creator>
  <dc:description/>
  <dc:language>en-US</dc:language>
  <cp:lastModifiedBy>stud</cp:lastModifiedBy>
  <dcterms:modified xsi:type="dcterms:W3CDTF">2010-06-28T10:55:26Z</dcterms:modified>
  <cp:revision>433</cp:revision>
  <dc:subject/>
  <dc:title>Dvd-Hd. Istoric. Video</dc:title>
</cp:coreProperties>
</file>