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4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Times New Roman"/>
              </a:rPr>
              <a:t>Săucan Augustin Alexand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03D5-83A5-46FB-9EC4-C5021620F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012-C3F2-435F-AC22-02DCC3ED9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0" y="8956800"/>
            <a:ext cx="3070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ăucan Augustin Alexand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0" y="8956800"/>
            <a:ext cx="3070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ăucan Augustin Alexand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6E23-3577-4AE8-8CEC-C1B7B60E1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7E3-9476-4FD4-B095-75CC9A0D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6AD-2B0D-4102-8395-BC111C4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8EE-3FC7-4539-BA19-85B666F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D0B-7065-45AA-A584-5073334C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7D8-6418-4744-81A6-1DB44AFC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38EB-D89F-47ED-ADEE-15D2A2D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3A1-D6EB-4F65-8DE9-26EC886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08C3-6207-4EDC-8763-D1A5A23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F326-5B77-4111-B0FC-096D31D0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477A-0A70-4913-9C7C-AB06577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6C17-46B9-4E1B-B720-6915852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DAC-A2C8-441E-81AD-33F367E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69A-F9F4-4D97-BA9F-3827390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E04-E38F-471C-BDAE-7AF8D51E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48EC-15AB-42A4-850E-DA0CE0F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9708-87D2-4656-B1AD-E02D1BB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507-258F-4552-9D2B-46C38E8D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80BC-ECE2-4AE5-91EC-0EDD4826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2B4B-5756-4937-8BF7-A3B9DF37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8621-BBE4-4E06-99B6-FF4A708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4993-D243-4140-8638-9782092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5640-8800-47B8-952A-6B9823A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8F0-B6C3-4DC8-9FF3-D08BCE31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C6C4-A183-48E4-80D6-5034B40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A758-F7EE-49E1-AF15-F41348A6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32DA-96F1-4581-A9CE-39B08F6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B433-E2A7-4646-9A11-3B0F3A0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F2A1-B950-4CA0-AE52-49321144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C195-145A-41D2-BDBD-F1B1CFC4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6C7E-02BC-46EE-BD7E-D2FB5E0C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F57F-4FFD-4BF4-92E4-43C1C0CD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024D-07DD-4C26-BFE1-1E76114E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1CCA-1CD9-4C9D-953B-87EE6F8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9BE-BE66-4DA9-8DF6-A28BCC34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E80D-DEF4-4B90-A9BE-E1A7DE43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CA33-EE9B-4CBA-BC48-40439B9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323C-95B3-4176-AFCA-75EE883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5307-364A-4927-ABDF-3CDF0F3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2852-9885-4B21-9925-962DDD0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5A27-046B-41F8-87D3-1992304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8118-30B3-4014-A4DB-71351985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970F-99C3-4CBD-9854-667EE760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12DF-0185-4C60-BFC3-E5E5B29E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3F4D-AF32-443C-9F29-7671A5BB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EBF-8F97-4674-B5FD-90FBB57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2489D-AD96-419A-8D86-7EDB87AF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C2E97-6EAF-466C-A390-77EB48B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AA09-DAE8-482F-9498-B8B2AF3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29C9-E308-4676-B15F-C4D48C3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0428-F593-4D14-85E0-EF30E65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5BC3-736A-4205-899E-8A9D84C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D840-63C0-4112-B4DE-6988232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DD06-E61B-4654-BA9B-4B85347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3794-286B-4FD3-B111-1B4AF980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58C4-A271-4F56-B53D-806FFA3E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3C7-3E9D-4C6D-9924-E0EB6CE6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1A7C-B8DD-47DF-B4E4-886F684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DAA-2F7F-4F16-BBEF-62ACED5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994-5AD4-4FC2-AE93-2222FC9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2AB-12E5-4E63-97A4-2B2FB93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E6C5-ED7F-4DD9-BEE7-DD4BE4F8C00B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45A7-EDF6-41F1-9F35-EE2C4CD93D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7999-2C5B-45A3-9134-1C9F86D68B1A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1E8-C4CC-4239-A96D-EDEB8B969A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B4AC-168B-4F0C-AC55-8310EFB628C3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0CC-E682-4D76-A81E-A6FC4B9FA9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97D-7C62-473F-9A09-A8624A8A2E3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E57-F2F5-4328-AC28-8141DFE767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D49-DC8D-4AB9-B7AB-F3900BF0C35E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F01-C03B-4727-B7A8-484FE850BE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Franklin Gothic Book"/>
              </a:rPr>
              <a:t>Implementarea unor protocoale TCP/IP prin programare pe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3F3-1751-4FAF-857A-21B980B7327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5676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Perpetua"/>
              </a:rPr>
              <a:t>Conducător ştiinţific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        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As. ing. Marius OLTEA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Perpetua"/>
              </a:rPr>
              <a:t>Autor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                               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Augusti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Alexandru SĂUC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57120" y="5000760"/>
            <a:ext cx="6573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285840" y="3571920"/>
            <a:ext cx="743040" cy="7333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1857240" y="3643200"/>
            <a:ext cx="6786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a unui sistem capabil de formarea şi emisia de pachete pe reţ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cepţia datelor la un calculator utilizând MAT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erea unor date care reprez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ă eşantioane ale unui semnal, înspre a fi prelucrate în MAT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146160" y="6210360"/>
            <a:ext cx="4968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019C-4BE8-4DAC-B669-8685EDEABF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Content Placeholder 5"/>
              <p:cNvSpPr txBox="1"/>
              <p:nvPr/>
            </p:nvSpPr>
            <p:spPr>
              <a:xfrm>
                <a:off x="785880" y="2500200"/>
                <a:ext cx="739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⊕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⊕</m:t>
                    </m:r>
                    <m:r>
                      <m:t xml:space="preserve">d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⊕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⊕</m:t>
                    </m:r>
                    <m:r>
                      <m:t xml:space="preserve">d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⊕</m:t>
                    </m:r>
                    <m:r>
                      <m:t xml:space="preserve">d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2500200" y="571680"/>
                <a:ext cx="4149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3214800" y="3714840"/>
                <a:ext cx="289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⊕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3286080" y="4786200"/>
                <a:ext cx="291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⊕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924280" y="5500800"/>
                <a:ext cx="3654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X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⊕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TextBox 11"/>
          <p:cNvSpPr/>
          <p:nvPr/>
        </p:nvSpPr>
        <p:spPr>
          <a:xfrm>
            <a:off x="785880" y="150012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Prin identificarea matricilor şi înlocuirea operatorilor cu cei corespunzători câmpului GF2 se obţine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928800" y="31431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e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rea 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generatorului serial după </a:t>
            </a:r>
            <a:r>
              <a:rPr b="0" i="1" lang="ro-RO" sz="2400" spc="-1" strike="noStrike">
                <a:solidFill>
                  <a:srgbClr val="000000"/>
                </a:solidFill>
                <a:latin typeface="Franklin Gothic Book"/>
              </a:rPr>
              <a:t>w 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tacte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1214280" y="42861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e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şirea generatorului paralel după 1 tact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7575120" y="785880"/>
            <a:ext cx="30708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8575200" y="2571840"/>
            <a:ext cx="30708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7789320" y="3786120"/>
            <a:ext cx="30708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7789320" y="4857840"/>
            <a:ext cx="30708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7789320" y="5572080"/>
            <a:ext cx="30708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ceptorul – MATLAB</a:t>
            </a:r>
            <a:r>
              <a:rPr b="0" lang="ro-RO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146160" y="6210360"/>
            <a:ext cx="4968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43D-EC10-4FCD-90C7-463642639B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444600" y="1357200"/>
            <a:ext cx="566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dpB = udp(ipA,portA,'LocalPort',port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pen(ud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=fread(ud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0:length(u)-1,u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428760" y="335772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xemplu pentru FTJ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onstanta d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09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mnalul dreptunghiula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st av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ând perioada de </a:t>
            </a:r>
            <a:r>
              <a:rPr b="1" lang="ro-RO" sz="1800" spc="-1" strike="noStrike">
                <a:solidFill>
                  <a:srgbClr val="000000"/>
                </a:solidFill>
                <a:latin typeface="Franklin Gothic Book"/>
              </a:rPr>
              <a:t>1,650 m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Content Placeholder 5" descr="24.bmp"/>
          <p:cNvPicPr/>
          <p:nvPr/>
        </p:nvPicPr>
        <p:blipFill>
          <a:blip r:embed="rId1"/>
          <a:stretch/>
        </p:blipFill>
        <p:spPr>
          <a:xfrm>
            <a:off x="3643200" y="2214720"/>
            <a:ext cx="51436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xemplu pentru FTJ cu constanta de </a:t>
            </a:r>
            <a:r>
              <a:rPr b="1" lang="ro-RO" sz="2000" spc="-1" strike="noStrike">
                <a:solidFill>
                  <a:srgbClr val="000000"/>
                </a:solidFill>
                <a:latin typeface="Franklin Gothic Book"/>
              </a:rPr>
              <a:t>235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o-RO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mnalul dreptunghiular de test av</a:t>
            </a:r>
            <a:r>
              <a:rPr b="0" lang="ro-RO" sz="2000" spc="-1" strike="noStrike">
                <a:solidFill>
                  <a:srgbClr val="000000"/>
                </a:solidFill>
                <a:latin typeface="Franklin Gothic Book"/>
              </a:rPr>
              <a:t>ând perioada de </a:t>
            </a:r>
            <a:r>
              <a:rPr b="1" lang="ro-RO" sz="2000" spc="-1" strike="noStrike">
                <a:solidFill>
                  <a:srgbClr val="000000"/>
                </a:solidFill>
                <a:latin typeface="Franklin Gothic Book"/>
              </a:rPr>
              <a:t>1,650 m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146160" y="6210360"/>
            <a:ext cx="496800" cy="433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14C-709B-4617-B0C1-A034D4653A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Content Placeholder 5" descr="22.bmp"/>
          <p:cNvPicPr/>
          <p:nvPr/>
        </p:nvPicPr>
        <p:blipFill>
          <a:blip r:embed="rId1"/>
          <a:stretch/>
        </p:blipFill>
        <p:spPr>
          <a:xfrm>
            <a:off x="1589040" y="1643040"/>
            <a:ext cx="5965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57160" y="2643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Franklin Gothic Book"/>
              </a:rPr>
              <a:t>Vă mulţumesc.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146160" y="6210360"/>
            <a:ext cx="496800" cy="433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229-5A42-47FA-BB1D-61FEDA200C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Franklin Gothic Book"/>
              </a:rPr>
              <a:t>Formarea cadrului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0" lang="ro-RO" sz="2100" spc="-1" strike="noStrike">
                <a:solidFill>
                  <a:srgbClr val="000000"/>
                </a:solidFill>
                <a:latin typeface="Franklin Gothic Book"/>
              </a:rPr>
              <a:t>elementul comun al celor 4 niveluri este o memorie de tip RAM.</a:t>
            </a:r>
            <a:endParaRPr b="0" lang="en-US" sz="21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Content Placeholder 3" descr="14.bmp"/>
          <p:cNvPicPr/>
          <p:nvPr/>
        </p:nvPicPr>
        <p:blipFill>
          <a:blip r:embed="rId1"/>
          <a:stretch/>
        </p:blipFill>
        <p:spPr>
          <a:xfrm>
            <a:off x="2163600" y="1785960"/>
            <a:ext cx="48168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22FB-4517-4D7F-AB39-088B9B3ACD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Franklin Gothic Book"/>
              </a:rPr>
              <a:t>Nivelul aplicaţie – Modelul </a:t>
            </a:r>
            <a:r>
              <a:rPr b="0" i="1" lang="ro-RO" sz="3200" spc="-1" strike="noStrike">
                <a:solidFill>
                  <a:srgbClr val="000000"/>
                </a:solidFill>
                <a:latin typeface="Franklin Gothic Book"/>
              </a:rPr>
              <a:t>Instrumen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1D7-B585-433D-8EFB-574B0C9F77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Content Placeholder 5" descr=""/>
          <p:cNvPicPr/>
          <p:nvPr/>
        </p:nvPicPr>
        <p:blipFill>
          <a:blip r:embed="rId1"/>
          <a:stretch/>
        </p:blipFill>
        <p:spPr>
          <a:xfrm>
            <a:off x="682560" y="1438200"/>
            <a:ext cx="77850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Structură ASM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mplificat</a:t>
            </a:r>
            <a:r>
              <a:rPr b="0" lang="ro-RO" sz="2400" spc="-1" strike="noStrike">
                <a:solidFill>
                  <a:srgbClr val="000000"/>
                </a:solidFill>
                <a:latin typeface="Franklin Gothic Book"/>
              </a:rPr>
              <a:t>ă a modelului </a:t>
            </a:r>
            <a:r>
              <a:rPr b="0" i="1" lang="ro-RO" sz="2400" spc="-1" strike="noStrike">
                <a:solidFill>
                  <a:srgbClr val="000000"/>
                </a:solidFill>
                <a:latin typeface="Franklin Gothic Book"/>
              </a:rPr>
              <a:t>Instrument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E876-0A85-4077-B4F3-568DDA2A7C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839960" y="1447920"/>
            <a:ext cx="546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Franklin Gothic Book"/>
              </a:rPr>
              <a:t>Nivelurile UDP şi IP – modelul </a:t>
            </a:r>
            <a:r>
              <a:rPr b="0" i="1" lang="ro-RO" sz="2900" spc="-1" strike="noStrike">
                <a:solidFill>
                  <a:srgbClr val="000000"/>
                </a:solidFill>
                <a:latin typeface="Franklin Gothic Book"/>
              </a:rPr>
              <a:t>UDP</a:t>
            </a:r>
            <a:r>
              <a:rPr b="0" i="1" lang="en-US" sz="2900" spc="-1" strike="noStrike">
                <a:solidFill>
                  <a:srgbClr val="000000"/>
                </a:solidFill>
                <a:latin typeface="Franklin Gothic Book"/>
              </a:rPr>
              <a:t>_</a:t>
            </a:r>
            <a:r>
              <a:rPr b="0" i="1" lang="ro-RO" sz="2900" spc="-1" strike="noStrike">
                <a:solidFill>
                  <a:srgbClr val="000000"/>
                </a:solidFill>
                <a:latin typeface="Franklin Gothic Book"/>
              </a:rPr>
              <a:t>IP</a:t>
            </a:r>
            <a:r>
              <a:rPr b="0" i="1" lang="en-US" sz="2900" spc="-1" strike="noStrike">
                <a:solidFill>
                  <a:srgbClr val="000000"/>
                </a:solidFill>
                <a:latin typeface="Franklin Gothic Book"/>
              </a:rPr>
              <a:t>sender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5B1-9AD1-4C94-98FA-BCD5CCE27D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28800" y="164268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 nivelul MAC să înceapă transmiterea unui nou cadru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Înainte de a transmite datele înscrise în memoria RAM, modelul trimite antetele corespunzăto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 transmite un octet la fiecare com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 a nivelului M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 transmisia celor două antete se citesc eşantioanele din memoria RA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uma de control a antetului IP este calculată de modelul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Pchecksu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, valoarea ei regăsindu-se în semnalul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chetul creat de c</a:t>
            </a:r>
            <a:r>
              <a:rPr b="0" lang="ro-RO" sz="2800" spc="-1" strike="noStrike">
                <a:solidFill>
                  <a:srgbClr val="000000"/>
                </a:solidFill>
                <a:latin typeface="Franklin Gothic Book"/>
              </a:rPr>
              <a:t>ătre modelul 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Book"/>
              </a:rPr>
              <a:t>UDP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_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Book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P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Book"/>
              </a:rPr>
              <a:t>sender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44E-7EB8-4968-9D56-C6A35BDD2E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576360" y="1143000"/>
            <a:ext cx="79912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Franklin Gothic Book"/>
              </a:rPr>
              <a:t>Nivelul MAC – modelul </a:t>
            </a:r>
            <a:r>
              <a:rPr b="0" i="1" lang="ro-RO" sz="2900" spc="-1" strike="noStrike">
                <a:solidFill>
                  <a:srgbClr val="000000"/>
                </a:solidFill>
                <a:latin typeface="Franklin Gothic Book"/>
              </a:rPr>
              <a:t>Ethernet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8E5-C539-473D-85D2-F3DA4CF41E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257480" y="1333440"/>
            <a:ext cx="6629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nterfa</a:t>
            </a:r>
            <a:r>
              <a:rPr b="0" lang="ro-RO" sz="2800" spc="-1" strike="noStrike">
                <a:solidFill>
                  <a:srgbClr val="000000"/>
                </a:solidFill>
                <a:latin typeface="Franklin Gothic Book"/>
              </a:rPr>
              <a:t>ţa cu nivelul fizic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MII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953D-3391-4F64-936F-7444CDA1DE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1234080" y="15717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nale utilizate : TXD[3:0], TX_CLK, TX_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1"/>
          <a:stretch/>
        </p:blipFill>
        <p:spPr>
          <a:xfrm>
            <a:off x="250920" y="2544840"/>
            <a:ext cx="86439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Franklin Gothic Book"/>
              </a:rPr>
              <a:t>Generator CRC32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96464"/>
                </a:solidFill>
                <a:latin typeface="Times New Roman"/>
              </a:rPr>
              <a:t>Săucan Augustin Alexand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E2E4-543B-4830-A905-A617215EF2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65120" y="1000080"/>
            <a:ext cx="8213760" cy="358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3143160" y="4786200"/>
                <a:ext cx="316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U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X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Box 6"/>
          <p:cNvSpPr/>
          <p:nvPr/>
        </p:nvSpPr>
        <p:spPr>
          <a:xfrm>
            <a:off x="7143840" y="5000760"/>
            <a:ext cx="35712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4:44:32Z</dcterms:created>
  <dc:creator>as</dc:creator>
  <dc:description/>
  <dc:language>en-US</dc:language>
  <cp:lastModifiedBy>WiMAX Platform</cp:lastModifiedBy>
  <dcterms:modified xsi:type="dcterms:W3CDTF">2010-06-28T10:31:33Z</dcterms:modified>
  <cp:revision>122</cp:revision>
  <dc:subject/>
  <dc:title>Slide 1</dc:title>
</cp:coreProperties>
</file>