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61C6-AA7F-4D44-B98A-07AD879C4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E59F-A57E-4E35-A658-C319761BD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CED6-D6BA-45C5-B681-B1193A535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357-F89B-4962-9FA6-4C07688D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7E40-687B-45D0-B262-2FC65D3C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E6E-EC68-4923-8F57-E8F05615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73D-139E-46BC-9335-33919B74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CCE8-5022-47D1-B7BF-BD6F7085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1286-03E2-4234-8AF4-C4953127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EE26-B55B-4591-B319-1AD4F484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2FFD-60F9-4F6D-A4D6-E2BDBC72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0FE4-1DDC-4A68-8A75-0A87F4F9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5191-56BF-498F-BE31-C1554A99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7CB8-CFEB-48B2-8F06-FFAF5797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AE07-FAED-4D38-B59F-90CE3DB8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0F20-5D97-4032-8668-D98A3D9E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4A5B-F1F6-47ED-9207-AB72B3DC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14C4-80CA-4DE3-A371-9C8F633C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0FF6-EDA1-48B3-B720-10B9FAC5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728B-CAA0-4ABD-92CF-9B8F9577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3DF69-D4F4-4217-8904-8FB77398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EB1E5-8DFB-4286-881D-F7CE0698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15B87-10BC-4A05-AF15-06F2C908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C003-F122-46CF-8E05-160E20EA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2343A-31B5-447E-94FD-EFDE1C20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7878-4DAA-487D-8247-83ADA76F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467E3-F2F3-4E9F-80B2-5DEBF740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0985D-5039-4AEC-ACCB-B96E9F29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6254F-7885-42E2-A71E-77E87A97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2DC01-1D0A-4AF3-9570-9D10B81C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D6DEE-FA8E-4972-BA12-22C224B8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C0082-0CFE-4844-B174-B695DE95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80A74-8CC9-47E7-B779-72BFE048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E2E45-16CE-4555-9DBB-8FD4A71A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D38D1-4659-4DF2-A0D3-3222E44D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38136-9E56-4126-AEF4-260BF0AC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42BC-D0E8-4CF5-BE14-FB110FFF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5BE9B-6569-449C-9396-3548F047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3ED4D-107A-4C90-A9AB-61DFAFAB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5A9E5-C65E-4DCE-8B7C-04D534BE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50369-D5EF-47BA-82ED-30D60854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CFBEC-4C38-44F6-838B-A863AA7D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AFB7D-BE66-4AD9-BDDE-1C7BA5C6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ED54F-3BE0-4FE1-A709-407DF2C8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FA302-7A54-469C-AF01-06BC74A7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846BF-FF33-456E-96F8-0B23E7DE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B2592-9746-491E-8672-828A0AFA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E8C-6BF6-4AA6-8D3E-844A6DFA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C1394-FC32-44CE-9273-C02D80CC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8B74C-C5BA-4A1D-9E2B-3A5355EB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1EB26-DB05-4A51-B03E-57AC17B7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B1AA7-0E33-4A7D-8040-21E8173B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FA841-CE99-4FC8-823F-9C1195AC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F8E55-7A25-452E-B542-52AED80C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DA820-77F1-4CE3-9033-C640A6AE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E5B3A-2B78-4270-ABFC-493817F3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9AD61-DA3C-4D7F-96F0-9735A1E6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9E226-5FC1-4A28-BA87-35155B9B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179-2863-477E-AF6D-66496239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F5B24-37F1-46BC-9EB3-65EBBF1D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F4AB-0B47-431E-B551-7B787912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3E7-DE75-4D93-BE25-1167BBF0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E11-E89E-4EF6-8B32-1682147D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b3b3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04d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04da3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315A-CF4D-4A98-AA69-D5BABEADF2FD}" type="datetime">
              <a:rPr b="0" lang="en-US" sz="1400" spc="-1" strike="noStrike">
                <a:solidFill>
                  <a:srgbClr val="42445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George - Gabriel Chil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63D1-0378-4337-B10B-CFA1B4ED1384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3b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8b5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b3b3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04d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04da3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5BCB-FC7B-4326-B458-0A922FF3D974}" type="datetime">
              <a:rPr b="0" lang="en-US" sz="1400" spc="-1" strike="noStrike">
                <a:solidFill>
                  <a:srgbClr val="42445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George - Gabriel Chil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18A2-E050-4B80-9FEA-CDCDF42C85BF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3b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8b5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b3b3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04d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04da3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D388-C269-46F1-9C63-48525B0A9FA6}" type="datetime">
              <a:rPr b="0" lang="en-US" sz="1400" spc="-1" strike="noStrike">
                <a:solidFill>
                  <a:srgbClr val="42445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George - Gabriel Chil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285A-D6E2-4F01-A7CB-3DB2F57802F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b3b3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04d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04da3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6776-739F-4B89-85A3-11CFDFF68111}" type="datetime">
              <a:rPr b="0" lang="en-US" sz="1400" spc="-1" strike="noStrike">
                <a:solidFill>
                  <a:srgbClr val="42445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George - Gabriel Chil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83BC-7FB1-4E02-8DF3-9676BA2BA923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3b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8b5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b3b3c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04d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04da3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B1C8-F9D7-4637-8DF6-2DBDA16EC2D6}" type="datetime">
              <a:rPr b="0" lang="en-US" sz="1400" spc="-1" strike="noStrike">
                <a:solidFill>
                  <a:srgbClr val="42445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George - Gabriel Chil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6B24-F4AF-44DA-B33F-E4520D7F8697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800240" y="4495680"/>
            <a:ext cx="35053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rge – Gabriel Chil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Calibri"/>
              </a:rPr>
              <a:t>Studiul antenelor utilizate în reţelele </a:t>
            </a:r>
            <a:br>
              <a:rPr sz="3600"/>
            </a:br>
            <a:r>
              <a:rPr b="1" lang="ro-RO" sz="3600" spc="-1" strike="noStrike">
                <a:solidFill>
                  <a:srgbClr val="ffffff"/>
                </a:solidFill>
                <a:latin typeface="Calibri"/>
              </a:rPr>
              <a:t>de comunicaţii mobile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1600200" y="6094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iversitatea “Politehnica” Timişo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685800" y="4876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onatori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tiinţifi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ubtitle 2"/>
          <p:cNvSpPr/>
          <p:nvPr/>
        </p:nvSpPr>
        <p:spPr>
          <a:xfrm>
            <a:off x="685800" y="5257800"/>
            <a:ext cx="3505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. Ing. Florin Ale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. Tiberiu V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ubtitle 2"/>
          <p:cNvSpPr/>
          <p:nvPr/>
        </p:nvSpPr>
        <p:spPr>
          <a:xfrm>
            <a:off x="4800600" y="41148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9"/>
          <p:cNvSpPr/>
          <p:nvPr/>
        </p:nvSpPr>
        <p:spPr>
          <a:xfrm>
            <a:off x="8534520" y="6248520"/>
            <a:ext cx="457200" cy="45720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519D-DCF5-4D06-8881-04BDE98A52FB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10"/>
          <p:cNvSpPr/>
          <p:nvPr/>
        </p:nvSpPr>
        <p:spPr>
          <a:xfrm>
            <a:off x="15228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George - Gabriel Chi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285" name="Content Placeholder 3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696440" cy="5791320"/>
          </a:xfrm>
          <a:prstGeom prst="rect">
            <a:avLst/>
          </a:prstGeom>
          <a:ln w="0">
            <a:noFill/>
          </a:ln>
        </p:spPr>
      </p:pic>
      <p:cxnSp>
        <p:nvCxnSpPr>
          <p:cNvPr id="286" name="AutoShape 2"/>
          <p:cNvCxnSpPr/>
          <p:nvPr/>
        </p:nvCxnSpPr>
        <p:spPr>
          <a:xfrm flipH="1" flipV="1">
            <a:off x="8305560" y="3047760"/>
            <a:ext cx="365760" cy="3657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7" name="Rectangle 3"/>
          <p:cNvSpPr/>
          <p:nvPr/>
        </p:nvSpPr>
        <p:spPr>
          <a:xfrm>
            <a:off x="7848720" y="3429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Z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8534520" y="6248520"/>
            <a:ext cx="457200" cy="45720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F6BA-4370-4D8D-A046-9144BCE3173F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6"/>
          <p:cNvSpPr/>
          <p:nvPr/>
        </p:nvSpPr>
        <p:spPr>
          <a:xfrm>
            <a:off x="15228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George - Gabriel Chi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Content Placeholder 3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6"/>
          <p:cNvSpPr/>
          <p:nvPr/>
        </p:nvSpPr>
        <p:spPr>
          <a:xfrm>
            <a:off x="457200" y="3808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imita maximă pentru nivelul produselor de intermodulaţie este setată la valoarea de – 154 dB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8534520" y="6248520"/>
            <a:ext cx="457200" cy="45720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FFB5-D514-48A2-B8C0-BC8DA670F5B7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15228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George - Gabriel Chi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6840" y="3049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575"/>
              </a:spcBef>
              <a:buClr>
                <a:srgbClr val="53548a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mul grafic prezintă un nivel al produselor de intermodulaţie constant peste limita impusă, generat cel mai probabil de o cositorire proastă a cablurilor coaxia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575"/>
              </a:spcBef>
              <a:buClr>
                <a:srgbClr val="53548a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l doilea grafic prezintă un nivel fluctuant al produselor de intermodulaţie, deoarece, în timpul măsurătorilor, antenele sunt supuse şi la şocuri mecanice repetate, induse cu ajutorul unor cilindri pneumatic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190760" cy="3886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4114800" cy="38862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4"/>
          <p:cNvSpPr/>
          <p:nvPr/>
        </p:nvSpPr>
        <p:spPr>
          <a:xfrm>
            <a:off x="8534520" y="6248520"/>
            <a:ext cx="457200" cy="45720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45F4-1393-4102-88C8-1027A9AA57BE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5"/>
          <p:cNvSpPr/>
          <p:nvPr/>
        </p:nvSpPr>
        <p:spPr>
          <a:xfrm>
            <a:off x="15228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George - Gabriel Chi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 u="sng">
                <a:solidFill>
                  <a:srgbClr val="424456"/>
                </a:solidFill>
                <a:uFillTx/>
                <a:latin typeface="Calibri"/>
              </a:rPr>
              <a:t>Concluzii</a:t>
            </a:r>
            <a:endParaRPr b="0" lang="en-US" sz="28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a proiectarea unei antene trebuie luate în considerare următoarele puncte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575"/>
              </a:spcBef>
              <a:buClr>
                <a:srgbClr val="53548a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oate componentele, precum cabluri, jumperi, conectori, trebuie să îndeplinească standardele de intermodulaţi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575"/>
              </a:spcBef>
              <a:buClr>
                <a:srgbClr val="53548a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oate componentele trebuie să aibă contacte bu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575"/>
              </a:spcBef>
              <a:buClr>
                <a:srgbClr val="53548a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materiale particulare, precum cuprul, alama, aluminiul sunt recomandate a fi folosite în construcţie. Alte materiale, precum oţelul şi nichelul, ar trebui evit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575"/>
              </a:spcBef>
              <a:buClr>
                <a:srgbClr val="53548a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materialele cu potenţial electrochimic ridicat nu trebuie folosi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575"/>
              </a:spcBef>
              <a:buClr>
                <a:srgbClr val="53548a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oate punctele de contact trebuie bine fix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575"/>
              </a:spcBef>
              <a:buClr>
                <a:srgbClr val="53548a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oate conexiunile dintre cabluri trebuie cositori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8534520" y="6248520"/>
            <a:ext cx="457200" cy="45720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7CCB-7C78-4737-A5CB-F0107E7E2A4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15228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George - Gabriel Chi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000000"/>
                </a:solidFill>
                <a:latin typeface="Calibri"/>
              </a:rPr>
              <a:t>Vă mulţumesc pentru atenţie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15228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George - Gabriel Chi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4"/>
          <p:cNvSpPr/>
          <p:nvPr/>
        </p:nvSpPr>
        <p:spPr>
          <a:xfrm>
            <a:off x="8534520" y="6248520"/>
            <a:ext cx="457200" cy="45720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01BB-167C-42AB-81A6-CD1BC781062B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 u="sng">
                <a:solidFill>
                  <a:srgbClr val="424456"/>
                </a:solidFill>
                <a:uFillTx/>
                <a:latin typeface="Calibri"/>
              </a:rPr>
              <a:t>Particularităţi ale reţelelor de comunicaţii mobile</a:t>
            </a:r>
            <a:endParaRPr b="0" lang="en-US" sz="28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244" name="Content Placeholder 3" descr=""/>
          <p:cNvPicPr/>
          <p:nvPr/>
        </p:nvPicPr>
        <p:blipFill>
          <a:blip r:embed="rId1"/>
          <a:stretch/>
        </p:blipFill>
        <p:spPr>
          <a:xfrm>
            <a:off x="2325600" y="1371600"/>
            <a:ext cx="4784760" cy="4495680"/>
          </a:xfrm>
          <a:prstGeom prst="rect">
            <a:avLst/>
          </a:prstGeom>
          <a:ln w="0">
            <a:noFill/>
          </a:ln>
        </p:spPr>
      </p:pic>
      <p:sp>
        <p:nvSpPr>
          <p:cNvPr id="245" name="Slide Number Placeholder 3"/>
          <p:cNvSpPr/>
          <p:nvPr/>
        </p:nvSpPr>
        <p:spPr>
          <a:xfrm>
            <a:off x="8534520" y="6248520"/>
            <a:ext cx="457200" cy="45720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9B07-EF19-4D48-9683-06960C97A824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0" lang="ro-RO" sz="14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15228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George - Gabriel Chi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24456"/>
                </a:solidFill>
                <a:uFillTx/>
                <a:latin typeface="Calibri"/>
              </a:rPr>
              <a:t>Tehnologia X-</a:t>
            </a:r>
            <a:r>
              <a:rPr b="1" lang="ro-RO" sz="2800" spc="-1" strike="noStrike" u="sng">
                <a:solidFill>
                  <a:srgbClr val="424456"/>
                </a:solidFill>
                <a:uFillTx/>
                <a:latin typeface="Calibri"/>
              </a:rPr>
              <a:t>Pol</a:t>
            </a:r>
            <a:br>
              <a:rPr sz="3600"/>
            </a:br>
            <a:endParaRPr b="0" lang="en-US" sz="28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248" name="Content Placeholder 3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3170160" cy="3047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2503440" cy="304776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"/>
          <p:cNvSpPr/>
          <p:nvPr/>
        </p:nvSpPr>
        <p:spPr>
          <a:xfrm>
            <a:off x="228600" y="4198320"/>
            <a:ext cx="8534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89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losind tehnologia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-Pol,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ecerea de la diversitatea spaţială la diversitatea de polarizare reduce numărul antenelor dintr-o staţie de bază, dar modifică stuctura internă a antenel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9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9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estea au formă de romb şi sunt alcătuite din perechi de dipoli situaţi la ±45° faţă de axa principală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8534520" y="6248520"/>
            <a:ext cx="457200" cy="45720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BA48-D2D5-49EA-9903-182EF3532228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6"/>
          <p:cNvSpPr/>
          <p:nvPr/>
        </p:nvSpPr>
        <p:spPr>
          <a:xfrm>
            <a:off x="15228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George - Gabriel Chi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424456"/>
                </a:solidFill>
                <a:uFillTx/>
                <a:latin typeface="Calibri"/>
              </a:rPr>
              <a:t>Măsurarea raportului de undă staţionară </a:t>
            </a:r>
            <a:endParaRPr b="0" lang="en-US" sz="28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254" name="Content Placeholder 3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3809880" cy="3276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733920" cy="32763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7"/>
          <p:cNvSpPr/>
          <p:nvPr/>
        </p:nvSpPr>
        <p:spPr>
          <a:xfrm>
            <a:off x="630360" y="1295280"/>
            <a:ext cx="83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ru a efectua măsurătorile, vom utiliza antena în tehnologie X-Pol 74221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 funcţionează în domeniul de frecvenţe 1710 – 22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609480" y="19810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 folosesc analizoarele de reţe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8753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5071C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de la Agilent 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6"/>
          <p:cNvSpPr/>
          <p:nvPr/>
        </p:nvSpPr>
        <p:spPr>
          <a:xfrm>
            <a:off x="8534520" y="6248520"/>
            <a:ext cx="457200" cy="45720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25DA-2D66-4746-A4D8-C07CB68EF489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7"/>
          <p:cNvSpPr/>
          <p:nvPr/>
        </p:nvSpPr>
        <p:spPr>
          <a:xfrm>
            <a:off x="15228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George - Gabriel Chi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Content Placeholder 3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559560" cy="49528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"/>
          <p:cNvSpPr/>
          <p:nvPr/>
        </p:nvSpPr>
        <p:spPr>
          <a:xfrm>
            <a:off x="1154520" y="533520"/>
            <a:ext cx="44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agul de măsură este stabilit l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,47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8534520" y="6248520"/>
            <a:ext cx="457200" cy="45720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D2BC-308A-42C1-8CEE-F20A5F86AEE9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15228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George - Gabriel Chi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uzele apariţiei unui raport de undă staţionară necorespunzător pot fi următoare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43808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ungimea neadecvată a cablurilor coaxia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43808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urplus de fludor folosit la cositorirea cablurilor coaxia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276360" cy="3962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"/>
          <p:cNvPicPr/>
          <p:nvPr/>
        </p:nvPicPr>
        <p:blipFill>
          <a:blip r:embed="rId2"/>
          <a:stretch/>
        </p:blipFill>
        <p:spPr>
          <a:xfrm>
            <a:off x="4191120" y="457200"/>
            <a:ext cx="4647960" cy="3962520"/>
          </a:xfrm>
          <a:prstGeom prst="rect">
            <a:avLst/>
          </a:prstGeom>
          <a:ln w="0">
            <a:noFill/>
          </a:ln>
        </p:spPr>
      </p:pic>
      <p:sp>
        <p:nvSpPr>
          <p:cNvPr id="267" name="Slide Number Placeholder 4"/>
          <p:cNvSpPr/>
          <p:nvPr/>
        </p:nvSpPr>
        <p:spPr>
          <a:xfrm>
            <a:off x="8534520" y="6248520"/>
            <a:ext cx="457200" cy="45720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233C-E510-454B-B752-2E85D17A8C9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5"/>
          <p:cNvSpPr/>
          <p:nvPr/>
        </p:nvSpPr>
        <p:spPr>
          <a:xfrm>
            <a:off x="15228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George - Gabriel Chi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24456"/>
                </a:solidFill>
                <a:uFillTx/>
                <a:latin typeface="Calibri"/>
              </a:rPr>
              <a:t>Măsurarea izolaţiei între porturi</a:t>
            </a:r>
            <a:br>
              <a:rPr sz="3600"/>
            </a:br>
            <a:endParaRPr b="0" lang="en-US" sz="28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atorită faptului că antena are 4 porturi, se măsoară 6 izolaţi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agul limită este fixat la – 30 d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Content Placeholder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086600" cy="4038480"/>
          </a:xfrm>
          <a:prstGeom prst="rect">
            <a:avLst/>
          </a:prstGeom>
          <a:ln w="0">
            <a:noFill/>
          </a:ln>
        </p:spPr>
      </p:pic>
      <p:sp>
        <p:nvSpPr>
          <p:cNvPr id="272" name="Slide Number Placeholder 4"/>
          <p:cNvSpPr/>
          <p:nvPr/>
        </p:nvSpPr>
        <p:spPr>
          <a:xfrm>
            <a:off x="8534520" y="6248520"/>
            <a:ext cx="457200" cy="45720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3C0E-55EE-408F-8516-FE212007F26F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5"/>
          <p:cNvSpPr/>
          <p:nvPr/>
        </p:nvSpPr>
        <p:spPr>
          <a:xfrm>
            <a:off x="15228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George - Gabriel Chi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eastă izolaţie proastă se poate dator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43808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ziţionării necorespunzătoare a lamelelor separatoare dintre dipo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43808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anţei neadecvate dintre cablurile coaxi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934320" cy="4648320"/>
          </a:xfrm>
          <a:prstGeom prst="rect">
            <a:avLst/>
          </a:prstGeom>
          <a:ln w="0">
            <a:noFill/>
          </a:ln>
        </p:spPr>
      </p:pic>
      <p:sp>
        <p:nvSpPr>
          <p:cNvPr id="276" name="Slide Number Placeholder 3"/>
          <p:cNvSpPr/>
          <p:nvPr/>
        </p:nvSpPr>
        <p:spPr>
          <a:xfrm>
            <a:off x="8534520" y="6248520"/>
            <a:ext cx="457200" cy="45720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B647-21C5-4FA5-ACCD-3E8D7D54F9AF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15228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George - Gabriel Chi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24456"/>
                </a:solidFill>
                <a:uFillTx/>
                <a:latin typeface="Calibri"/>
              </a:rPr>
              <a:t>Măsurarea nivelului de intermodulaţie</a:t>
            </a:r>
            <a:endParaRPr b="0" lang="en-US" sz="28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odusul trebuie să aibă un design corespunzăt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53548a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ocesul de fabricaţie trebuie să fie atent supraveghe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3505320" cy="3352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4800600" y="2743200"/>
            <a:ext cx="3805200" cy="3352680"/>
          </a:xfrm>
          <a:prstGeom prst="rect">
            <a:avLst/>
          </a:prstGeom>
          <a:ln w="0">
            <a:noFill/>
          </a:ln>
        </p:spPr>
      </p:pic>
      <p:sp>
        <p:nvSpPr>
          <p:cNvPr id="282" name="Slide Number Placeholder 5"/>
          <p:cNvSpPr/>
          <p:nvPr/>
        </p:nvSpPr>
        <p:spPr>
          <a:xfrm>
            <a:off x="8534520" y="6248520"/>
            <a:ext cx="457200" cy="45720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50AA-6D1F-4CF3-8E13-33E74D483D6D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6"/>
          <p:cNvSpPr/>
          <p:nvPr/>
        </p:nvSpPr>
        <p:spPr>
          <a:xfrm>
            <a:off x="15228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Calibri"/>
              </a:rPr>
              <a:t>George - Gabriel Chi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Boss</cp:lastModifiedBy>
  <dcterms:modified xsi:type="dcterms:W3CDTF">2010-06-27T20:01:59Z</dcterms:modified>
  <cp:revision>41</cp:revision>
  <dc:subject/>
  <dc:title>Studiul antenelor X-Pol utilizate în reţelele de comunicaţii mobile</dc:title>
</cp:coreProperties>
</file>